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6811-BDAE-48FB-8A83-065A2CE93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240E-6C10-4FAE-9D93-FAB89543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BD7C-B284-4D30-9736-0F50F2B84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70CC1-F719-4497-8CE5-65143765C8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23B8-5101-4DA5-9D6C-B2FD2AD08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76986-F222-417E-AADF-CF2879D60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EBB02-6BED-4D74-A498-1D3235E6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B377-72AB-40A5-91A8-1EC616096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166F-2CC0-4788-AA75-69A541E73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C605-0481-48AE-8A11-CB9D2CADD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C957B-1776-4F4D-8F2A-8DBDA14E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13AD-6D5E-4102-927D-21A23590B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ptos Display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ptos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67676"/>
                </a:solidFill>
                <a:latin typeface="Apto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767676"/>
                </a:solidFill>
                <a:latin typeface="Apto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pto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767676"/>
                </a:solidFill>
                <a:latin typeface="Apto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DF675-2BC0-4D0A-8084-3396D3F43852}" type="slidenum">
              <a:rPr b="0" lang="ru-RU" sz="1200" spc="-1" strike="noStrike">
                <a:solidFill>
                  <a:srgbClr val="767676"/>
                </a:solidFill>
                <a:latin typeface="Apto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pto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000" spc="-1" strike="noStrike">
              <a:solidFill>
                <a:srgbClr val="000000"/>
              </a:solidFill>
              <a:latin typeface="Aptos Display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Aptos"/>
            </a:endParaRPr>
          </a:p>
        </p:txBody>
      </p:sp>
      <p:pic>
        <p:nvPicPr>
          <p:cNvPr id="43" name="Рисунок 4" descr=""/>
          <p:cNvPicPr/>
          <p:nvPr/>
        </p:nvPicPr>
        <p:blipFill>
          <a:blip r:embed="rId1"/>
          <a:stretch/>
        </p:blipFill>
        <p:spPr>
          <a:xfrm>
            <a:off x="0" y="-49320"/>
            <a:ext cx="12176280" cy="671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4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6836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4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2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4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8096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36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3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287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5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277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7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176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ptos Display"/>
            </a:endParaRPr>
          </a:p>
        </p:txBody>
      </p:sp>
      <p:pic>
        <p:nvPicPr>
          <p:cNvPr id="59" name="Объект 3" descr=""/>
          <p:cNvPicPr/>
          <p:nvPr/>
        </p:nvPicPr>
        <p:blipFill>
          <a:blip r:embed="rId1"/>
          <a:stretch/>
        </p:blipFill>
        <p:spPr>
          <a:xfrm>
            <a:off x="0" y="0"/>
            <a:ext cx="1228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5-03-23T17:13:20Z</dcterms:created>
  <dc:creator>даша сучкова</dc:creator>
  <dc:description/>
  <dc:language>en-US</dc:language>
  <cp:lastModifiedBy>УМЦ</cp:lastModifiedBy>
  <dcterms:modified xsi:type="dcterms:W3CDTF">2025-03-25T12:17:03Z</dcterms:modified>
  <cp:revision>1</cp:revision>
  <dc:subject/>
  <dc:title>Презентация PowerPoint</dc:title>
</cp:coreProperties>
</file>